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6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7.jpeg" ContentType="image/jpeg"/>
  <Override PartName="/ppt/media/image1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6.jpeg" ContentType="image/jpe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F237-017F-4E88-ABC4-1C330EBCA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FB92-8CBD-4959-985C-C0A76930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4E2F-EE94-4FAB-806A-C713FDA7A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3F30-0C72-4D2D-9875-16680793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8158-A8B6-4F36-999E-F0F638DA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0F38-731A-4AF7-8714-AEF67E7C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AF66-2FE8-4F18-9717-5F1C5DFC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36ED-BFBB-4760-ADDB-36F78914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38D2-9BD5-41AB-9B05-7B5FD53F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DD78-847C-4C51-9A14-2521590F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FAFF-3FAA-40F6-A64A-83607471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99FA-0761-424D-BD77-C3FA110E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59C0-1D8A-43CA-A9D7-C7E9EAC3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E2DE-78A3-4910-BD37-785C0BEC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18BD-A911-4A18-8593-B7F7E290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7078-67BF-4402-A840-F56BD6E5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853D-6EF0-4316-BCFE-9A7831730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C54D-2DE5-47F1-A530-F7E80821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34D1-9A57-45C7-97FF-88321734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5CA9-D475-4D37-9B43-8E6B6224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0E75-A745-446A-8AC2-63A1A77C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731A-E0E8-4823-9DDD-8AACD6F7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07CE-E9EF-437A-85A4-AB4AF996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9B43-04B0-4CFE-850C-E3B2DB18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950D-AED9-48AF-BA13-048DAF2F477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C195-06CA-4BB1-AFD8-2FF184FCA8F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b7"/>
                </a:solidFill>
                <a:latin typeface="Comic Sans MS"/>
              </a:rPr>
              <a:t>     </a:t>
            </a:r>
            <a:br>
              <a:rPr sz="3600"/>
            </a:br>
            <a:br>
              <a:rPr sz="3600"/>
            </a:br>
            <a:r>
              <a:rPr b="1" lang="ro-RO" sz="3600" spc="-1" strike="noStrike">
                <a:solidFill>
                  <a:srgbClr val="ffffb7"/>
                </a:solidFill>
                <a:latin typeface="Comic Sans MS"/>
              </a:rPr>
              <a:t>       </a:t>
            </a:r>
            <a:br>
              <a:rPr sz="3600"/>
            </a:br>
            <a:br>
              <a:rPr sz="3600"/>
            </a:br>
            <a:r>
              <a:rPr b="1" lang="ro-RO" sz="3600" spc="-1" strike="noStrike">
                <a:solidFill>
                  <a:srgbClr val="ffffb7"/>
                </a:solidFill>
                <a:latin typeface="Comic Sans MS"/>
              </a:rPr>
              <a:t>     </a:t>
            </a:r>
            <a:r>
              <a:rPr b="1" lang="en-US" sz="3600" spc="-1" strike="noStrike">
                <a:solidFill>
                  <a:srgbClr val="ffffb7"/>
                </a:solidFill>
                <a:latin typeface="Comic Sans MS"/>
              </a:rPr>
              <a:t>EU SI EMOTIILE MELE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484360" y="3645000"/>
            <a:ext cx="3888000" cy="29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b7"/>
                </a:solidFill>
                <a:latin typeface="Arial Black"/>
              </a:rPr>
              <a:t>CE E IN SUFLETUL MEU ATUNCI CAND MA INCEARCA MULTE EMOTII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35280" y="2133720"/>
            <a:ext cx="590544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b7"/>
                </a:solidFill>
                <a:latin typeface="Arial Black"/>
              </a:rPr>
              <a:t>CE E IN SUFLETUL MEU ATUNCI CAND MA INCEARCA MULTE EMOTII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55840" y="1905120"/>
            <a:ext cx="6211800" cy="46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MULTUMIM PENTRU CA ATI PRIVIT MATERIALUL NOSTRU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560" y="227628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aris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Vla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adal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ristin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Arial Black"/>
              </a:rPr>
              <a:t>CE EMOTII STIU SA DESENEZ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3927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Arial"/>
              </a:rPr>
              <a:t>BUCU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U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ISTETE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788000" y="3213000"/>
            <a:ext cx="880920" cy="935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04000" y="1916280"/>
            <a:ext cx="795240" cy="865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859280" y="1916280"/>
            <a:ext cx="795240" cy="865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732720" y="335772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788000" y="4581360"/>
            <a:ext cx="934920" cy="100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76720" y="4869000"/>
            <a:ext cx="142920" cy="144360"/>
          </a:xfrm>
          <a:prstGeom prst="ellipse">
            <a:avLst/>
          </a:prstGeom>
          <a:solidFill>
            <a:srgbClr val="1c1c1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64000" y="4869000"/>
            <a:ext cx="142920" cy="144360"/>
          </a:xfrm>
          <a:prstGeom prst="ellipse">
            <a:avLst/>
          </a:prstGeom>
          <a:solidFill>
            <a:srgbClr val="1c1c1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724280"/>
            <a:ext cx="792360" cy="8654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5217000">
            <a:off x="5184720" y="5192640"/>
            <a:ext cx="144360" cy="21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410" y="1295"/>
                  <a:pt x="7220" y="5080"/>
                  <a:pt x="7220" y="10800"/>
                </a:cubicBezTo>
                <a:cubicBezTo>
                  <a:pt x="7220" y="16520"/>
                  <a:pt x="14410" y="2030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EU SUNT CATEODATA TRISTA, DAR DE MULTE ORI BUCUROASA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03640" y="2133720"/>
            <a:ext cx="3022920" cy="4176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971640" y="2133720"/>
            <a:ext cx="273672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IE IMI PLACE CAND SUNT BUCURO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411280" y="1773360"/>
            <a:ext cx="392904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66"/>
                </a:solidFill>
                <a:latin typeface="Arial Black"/>
              </a:rPr>
              <a:t>CINE SUNT EU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297400" y="1125360"/>
            <a:ext cx="2853000" cy="3598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291816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 FAMILIA  SI CASA TA ESTI CEL MAI IUBIT</a:t>
            </a:r>
            <a:r>
              <a:rPr b="1" lang="ro-RO" sz="4400" spc="-1" strike="noStrike">
                <a:solidFill>
                  <a:srgbClr val="ffffb7"/>
                </a:solidFill>
                <a:latin typeface="Arial Black"/>
              </a:rPr>
              <a:t>      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5406840" cy="38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b7"/>
                </a:solidFill>
                <a:latin typeface="Arial Black"/>
              </a:rPr>
              <a:t>CATEODATA SUNT DOAR TRIS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78120" y="1905120"/>
            <a:ext cx="592596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b7"/>
                </a:solidFill>
                <a:latin typeface="Arial Black"/>
              </a:rPr>
              <a:t>    </a:t>
            </a:r>
            <a:br>
              <a:rPr sz="4000"/>
            </a:br>
            <a:br>
              <a:rPr sz="4000"/>
            </a:br>
            <a:r>
              <a:rPr b="1" lang="ro-RO" sz="40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ro-RO" sz="4000" spc="-1" strike="noStrike">
                <a:solidFill>
                  <a:srgbClr val="ffffb7"/>
                </a:solidFill>
                <a:latin typeface="Arial Black"/>
              </a:rPr>
              <a:t>CE E IN SUFLETUL MEU ATUNCI CAND MA INCEARCA MULTE EMOTII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11280" y="2637000"/>
            <a:ext cx="4537080" cy="34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b7"/>
                </a:solidFill>
                <a:latin typeface="Arial Black"/>
              </a:rPr>
              <a:t>CE E IN SUFLETUL MEU ATUNCI CAND MA INCEARCA MULTE EMOTII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8:40:01Z</dcterms:created>
  <dc:creator> Carmen</dc:creator>
  <dc:description/>
  <dc:language>en-US</dc:language>
  <cp:lastModifiedBy>curs</cp:lastModifiedBy>
  <dcterms:modified xsi:type="dcterms:W3CDTF">2011-02-25T15:13:17Z</dcterms:modified>
  <cp:revision>34</cp:revision>
  <dc:subject/>
  <dc:title>Slide 1</dc:title>
</cp:coreProperties>
</file>